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bomb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3C3-4448-4871-ABA3-DDDEF615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CBB-E222-4C1A-9B26-54C1062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6F5-432E-473D-A134-81A17D1E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EED-4335-4FA7-B8BA-7C8698FB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83E-B506-47CA-B0D8-9EF67CA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A18-A0C7-4793-B942-03B7F33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7B7-5001-4884-A35B-7D1968E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5FE-98F4-498F-9DA5-F82E075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9CB-4D2D-4AE1-B6D6-F9D9470C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9FB-B408-44DE-BB04-60992AF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250-A7B0-4915-8F28-8A2D6C5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BC1-AB76-406A-A743-847FAE7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04E-AA9C-4A7D-B0C0-EA18F671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Mass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4,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4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3, the Oregon Trail brought the first large groups of settlers (about 1,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is the capital state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t fou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ound in November 11, 1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790960" cy="3505320"/>
          </a:xfrm>
          <a:prstGeom prst="rect">
            <a:avLst/>
          </a:prstGeom>
          <a:ln w="9360">
            <a:solidFill>
              <a:srgbClr val="66ff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tate bird is the Willow Gold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5181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capital city is Olym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0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lo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tate flower is th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’s nickname is the Chinoo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1:36:02Z</dcterms:created>
  <dc:creator>Mother of Divine Grace</dc:creator>
  <dc:description/>
  <dc:language>en-US</dc:language>
  <cp:lastModifiedBy> </cp:lastModifiedBy>
  <dcterms:modified xsi:type="dcterms:W3CDTF">2012-05-20T21:31:02Z</dcterms:modified>
  <cp:revision>6</cp:revision>
  <dc:subject/>
  <dc:title>Washington</dc:title>
</cp:coreProperties>
</file>